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47E-5B02-4F47-A4CA-A2BE103C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0C6-1B28-4840-8BAA-3A59D734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FF4-7359-4CB8-810F-25A3868E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99A-5322-4F3E-82ED-15520F6A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FEE-826E-4801-BFCE-A71F5E6B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5F8-2F8D-46A2-A391-50979FB3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A1AE-8FA9-4F1A-A36F-38F80902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7C5-ADC7-463C-8807-B3BDA8CD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7E02-8884-495E-A3FA-330104CF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B08F-1B76-4C9A-880A-EC3CF6AF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94C-3461-4AAC-A284-47B5FE8B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FA3-1BD0-4654-893E-492D5553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030B-6C45-475D-9C1E-C666C07E6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LENIN IS MY HOMB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Y: KEITH D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laybill"/>
              </a:rPr>
              <a:t>VLADIMIR L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LED THE RUSSIAN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DEFEATED CZAR NICHOLA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CREATED THE UNION OF SOVIET SOCIALIST REPUBLICS, OR U.S.S.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SPREAD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REGARDED AS A HERO IN RUSSIA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RUSSIAN REVOLU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LED BY VLADIMIR LENIN AND HIS FOL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AGAINST THE CZ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LENIN AND HIS FOLLOWERS WERE VICTO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EVENT WAS IN 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THE RISE OF STA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AFTER LENIN DIED, JOSEPH STALIN BECAME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HE WAS REGARED AS A GREAT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THE RUSSIAN PEOPLE DIDN’T LIKE STALIN AS A LEA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HE DIDN’T CARE FOR THE RUSSIA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stalin started the gulag, which were a series of government prison c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0:05:50Z</dcterms:created>
  <dc:creator> </dc:creator>
  <dc:description/>
  <dc:language>en-US</dc:language>
  <cp:lastModifiedBy> </cp:lastModifiedBy>
  <dcterms:modified xsi:type="dcterms:W3CDTF">2010-12-15T20:26:38Z</dcterms:modified>
  <cp:revision>4</cp:revision>
  <dc:subject/>
  <dc:title>LENIN IS MY HOMBOY</dc:title>
</cp:coreProperties>
</file>